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7A4B-BB67-4E14-A088-8850EE45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CA52-3127-4C9A-A0AB-747831EB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B2F7-043B-42B0-BE7A-FD5962F05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E3D7-01BA-4433-9034-F3DF79DD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B3B2-2A3B-4C34-AA99-6F40694C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849D-1104-4EA1-8F24-F38063C1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3ACA-AE2D-499C-AA2F-C349CC0F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4B8D-BBB3-4D6B-8AA2-15E3F994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EF09-3150-4528-AB32-642C26A9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4E60-781C-4322-BCFF-D6C69C57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6D75-A778-46CA-B3A3-72611CF1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A67D-CBE0-4BD5-929C-D8462F94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743A-A7E6-49C5-90B3-71D09715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1E39-A897-4392-8155-922B136F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3835-0035-42B4-8403-51F4163E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5203-9606-4F79-8DF5-2D6A03346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F766-AE55-4A00-8F23-C51253EC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BC6B-CFBD-493E-BF3D-A898E485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5170-B152-405D-8F80-4F4EE7F7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EE72-79C4-48F2-A91B-6D93A7CE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F80B-8C6A-440F-AD51-994BAAF5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D623-EC9F-48E3-A3D0-27FBF7A7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96F9-B322-4B08-977D-D256F5E4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3BB9-B8CA-493F-BAF6-6BDD1543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D419-9E17-42B5-BF18-C42D69A00F2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9CD4-C270-4036-A97D-0A04207EC60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4292640"/>
            <a:ext cx="6400800" cy="218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>
                <a:solidFill>
                  <a:srgbClr val="ffffff"/>
                </a:solidFill>
                <a:latin typeface="Tahoma"/>
                <a:cs typeface="????Boutros Rokaa"/>
              </a:rPr>
              <a:t>إيماني ساطع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200"/>
            </a:b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0"/>
            <a:ext cx="8686800" cy="1040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يماني ساطع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بحر الليل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يماني الشمس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ea typeface="Akhbar MT"/>
              </a:rPr>
              <a:t>   الـمدى والليل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32000" y="304920"/>
            <a:ext cx="6012000" cy="1054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ا بيتكسَّر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إيماني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لا بيتعب إيماني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29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5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إنتَ اللي ما بتنساني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280" y="1905120"/>
            <a:ext cx="861084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هما تأخر جايي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ما بيضيع اللي جايي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ا غفله بيوصَل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قلب</a:t>
            </a:r>
            <a:r>
              <a:rPr b="1" lang="ar-LB" sz="8300" spc="-1" strike="noStrike">
                <a:solidFill>
                  <a:srgbClr val="ffffff"/>
                </a:solidFill>
                <a:latin typeface="Times New Roman"/>
                <a:ea typeface="Akhbar MT"/>
              </a:rPr>
              <a:t> </a:t>
            </a: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ضوّ من خَلف الغيم،</a:t>
            </a:r>
            <a:r>
              <a:rPr b="1" lang="ar-SA" sz="83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2057400"/>
            <a:ext cx="861084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9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ما حدا بيعرف</a:t>
            </a:r>
            <a:endParaRPr b="0" lang="en-US" sz="9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9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َللي جايي</a:t>
            </a:r>
            <a:endParaRPr b="0" lang="en-US" sz="9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9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يف بيبقى جايي. </a:t>
            </a:r>
            <a:endParaRPr b="0" lang="en-US" sz="9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0"/>
            <a:ext cx="8686800" cy="1040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يماني ساطع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بحر الليل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يماني الشمس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ea typeface="Akhbar MT"/>
              </a:rPr>
              <a:t>   الـمدى والليل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132000" y="304920"/>
            <a:ext cx="6012000" cy="1054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ا بيتكسَّر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إيماني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لا بيتعب إيماني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329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5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إنتَ اللي ما بتنساني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152280"/>
            <a:ext cx="8915400" cy="868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00"/>
                </a:solidFill>
                <a:latin typeface="Times New Roman"/>
                <a:cs typeface="Akhbar MT"/>
              </a:rPr>
              <a:t>أنا إيماني الفرح الوسيع ومن خلف العواصف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00"/>
                </a:solidFill>
                <a:latin typeface="Times New Roman"/>
                <a:cs typeface="Akhbar MT"/>
              </a:rPr>
              <a:t>جايي الربيع</a:t>
            </a:r>
            <a:r>
              <a:rPr b="1" lang="ar-LB" sz="9400" spc="-1" strike="noStrike">
                <a:solidFill>
                  <a:srgbClr val="ffff00"/>
                </a:solidFill>
                <a:latin typeface="Times New Roman"/>
                <a:ea typeface="Akhbar MT"/>
              </a:rPr>
              <a:t> 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8240" y="4319640"/>
            <a:ext cx="8610480" cy="475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00"/>
                </a:solidFill>
                <a:latin typeface="Times New Roman"/>
                <a:cs typeface="Akhbar MT"/>
              </a:rPr>
              <a:t>إذا كبـرت أحزاني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00"/>
                </a:solidFill>
                <a:latin typeface="Times New Roman"/>
                <a:cs typeface="Akhbar MT"/>
              </a:rPr>
              <a:t>ونسيني العمر التاني،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329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500" spc="-1" strike="noStrike">
                <a:solidFill>
                  <a:srgbClr val="000000"/>
                </a:solidFill>
                <a:latin typeface="Times New Roman"/>
                <a:cs typeface="Akhbar MT"/>
              </a:rPr>
              <a:t>إنتَ اللي ما بتنساني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06:24:17Z</dcterms:created>
  <dc:creator>Charbel Azar</dc:creator>
  <dc:description/>
  <dc:language>en-US</dc:language>
  <cp:lastModifiedBy>-</cp:lastModifiedBy>
  <dcterms:modified xsi:type="dcterms:W3CDTF">2003-01-29T09:43:57Z</dcterms:modified>
  <cp:revision>6</cp:revision>
  <dc:subject/>
  <dc:title>PowerPoint Presentation</dc:title>
</cp:coreProperties>
</file>